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F88-6C76-4CB4-BFC9-361C07C5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18B-DBDA-4465-88FC-F7BAD25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78F-E000-4E8B-962F-89D56243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C68-C884-4777-ABBE-E076EA2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C40-0E49-4343-8C61-D7124103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81E-F7E8-47F7-AC24-5725533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846-95F7-4BA5-8A34-683A872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E72-C5E1-4AEF-BF28-D5F3CA0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142-5322-459B-8476-130FA6E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DB4-A8D6-4098-8E36-C31791DE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6D6-B507-4A65-AC96-594FA1C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C1E-47CA-453E-A575-8C36DAB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E9F0-0391-45C3-9BE9-61589833DD4C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268200" y="1365120"/>
            <a:ext cx="8869320" cy="203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olves the guest’s experience and the staff’s perform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est and server are both part of transa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Quality control is difficu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 must be zero defec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duction and consumption are simultaneous (There is no inventory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lectronic-mechan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direct pers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ce-to-fac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cuses on the tasks that make up serv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s controlling employee behavi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rols cost of transaction/process objective, measurable 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ntrates on what we d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s interaction between the service organization and the gue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s employees to satisfy guests’ needs and desi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s employees to solve guests’ probl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centrates on what the guest want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oose market segment or seg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termine appropriate service level and 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 not over prom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ulfill expectation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2" descr=""/>
          <p:cNvPicPr/>
          <p:nvPr/>
        </p:nvPicPr>
        <p:blipFill>
          <a:blip r:embed="rId1"/>
          <a:stretch/>
        </p:blipFill>
        <p:spPr>
          <a:xfrm>
            <a:off x="420840" y="103320"/>
            <a:ext cx="8521560" cy="2006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2514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eep stated service policies and actual practice the sa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te management position to employe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eat employees as internal custom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move obstacles that keep people from doing their job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train bureaucrac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ire people who fit with the company and the service tea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hasize cross-trai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core trai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tivate through feedback and rew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stablish award programs that recognize excelle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volve employees in setting service standards and developing procedur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4771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03:20:47Z</dcterms:created>
  <dc:creator>Hospitality Management</dc:creator>
  <dc:description/>
  <dc:language>en-US</dc:language>
  <cp:lastModifiedBy>robert</cp:lastModifiedBy>
  <dcterms:modified xsi:type="dcterms:W3CDTF">2011-04-11T09:09:07Z</dcterms:modified>
  <cp:revision>4</cp:revision>
  <dc:subject/>
  <dc:title>The Role of Service in the Hospitality Industry</dc:title>
</cp:coreProperties>
</file>